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1388388" cy="15124113"/>
  <p:notesSz cx="92948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688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4280" y="-360"/>
            <a:ext cx="4030560" cy="3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24200" y="515880"/>
            <a:ext cx="3649680" cy="25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3268440"/>
            <a:ext cx="7435800" cy="3097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35440"/>
            <a:ext cx="4029120" cy="3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4280" y="6535440"/>
            <a:ext cx="4030560" cy="344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3600"/>
                <a:tab algn="l" pos="1987560"/>
                <a:tab algn="l" pos="2981160"/>
                <a:tab algn="l" pos="3975120"/>
                <a:tab algn="l" pos="4968720"/>
                <a:tab algn="l" pos="5962680"/>
                <a:tab algn="l" pos="6956280"/>
                <a:tab algn="l" pos="7950240"/>
                <a:tab algn="l" pos="8943840"/>
                <a:tab algn="l" pos="9937800"/>
                <a:tab algn="l" pos="10931400"/>
              </a:tabLst>
              <a:defRPr b="0" lang="en-US" sz="1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93600"/>
                <a:tab algn="l" pos="1987560"/>
                <a:tab algn="l" pos="2981160"/>
                <a:tab algn="l" pos="3975120"/>
                <a:tab algn="l" pos="4968720"/>
                <a:tab algn="l" pos="5962680"/>
                <a:tab algn="l" pos="6956280"/>
                <a:tab algn="l" pos="7950240"/>
                <a:tab algn="l" pos="8943840"/>
                <a:tab algn="l" pos="9937800"/>
                <a:tab algn="l" pos="10931400"/>
              </a:tabLst>
            </a:pPr>
            <a:fld id="{AE160BB2-8E2C-4DC6-B854-7554EE7E0D6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5264280" y="6535800"/>
            <a:ext cx="4030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b">
            <a:noAutofit/>
          </a:bodyPr>
          <a:p>
            <a:pPr algn="r">
              <a:tabLst>
                <a:tab algn="l" pos="0"/>
                <a:tab algn="l" pos="993600"/>
                <a:tab algn="l" pos="1987560"/>
                <a:tab algn="l" pos="2981160"/>
                <a:tab algn="l" pos="3975120"/>
                <a:tab algn="l" pos="4968720"/>
                <a:tab algn="l" pos="5962680"/>
                <a:tab algn="l" pos="6956280"/>
                <a:tab algn="l" pos="7950240"/>
                <a:tab algn="l" pos="8943840"/>
                <a:tab algn="l" pos="9937800"/>
                <a:tab algn="l" pos="10931400"/>
              </a:tabLst>
            </a:pPr>
            <a:fld id="{BBA47AED-90E7-4D01-A290-66B7DC55F9D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824200" y="515880"/>
            <a:ext cx="3649680" cy="2581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29880" y="3268440"/>
            <a:ext cx="743580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4D26-2715-42F0-922E-9D4E7123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8480" y="606600"/>
            <a:ext cx="19249920" cy="251928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ctr">
            <a:noAutofit/>
          </a:bodyPr>
          <a:p>
            <a:pPr indent="0" algn="ctr"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480" y="3529080"/>
            <a:ext cx="1924992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480" y="8742240"/>
            <a:ext cx="1924992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512F-0A29-4550-BB6E-A2E151C7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8480" y="606600"/>
            <a:ext cx="19249920" cy="251928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ctr">
            <a:noAutofit/>
          </a:bodyPr>
          <a:p>
            <a:pPr indent="0" algn="ctr"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480" y="3529080"/>
            <a:ext cx="939384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32480" y="3529080"/>
            <a:ext cx="939384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480" y="8742240"/>
            <a:ext cx="939384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932480" y="8742240"/>
            <a:ext cx="939384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EB26-C1B3-4AF7-8D1E-50616B3F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8480" y="606600"/>
            <a:ext cx="19249920" cy="251928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ctr">
            <a:noAutofit/>
          </a:bodyPr>
          <a:p>
            <a:pPr indent="0" algn="ctr"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480" y="3529080"/>
            <a:ext cx="619812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576920" y="3529080"/>
            <a:ext cx="619812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085360" y="3529080"/>
            <a:ext cx="619812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480" y="8742240"/>
            <a:ext cx="619812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576920" y="8742240"/>
            <a:ext cx="619812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085360" y="8742240"/>
            <a:ext cx="619812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DCF5-A863-41FA-A2B3-7C2D24AD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8480" y="606600"/>
            <a:ext cx="19249920" cy="251928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ctr">
            <a:noAutofit/>
          </a:bodyPr>
          <a:p>
            <a:pPr indent="0" algn="ctr"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480" y="3529080"/>
            <a:ext cx="19249920" cy="998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99"/>
              </a:spcBef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E41-64E2-4662-BB05-C547AF22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8480" y="606600"/>
            <a:ext cx="19249920" cy="251928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ctr">
            <a:noAutofit/>
          </a:bodyPr>
          <a:p>
            <a:pPr indent="0" algn="ctr"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480" y="3529080"/>
            <a:ext cx="19249920" cy="998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F3C3-9AA7-41D8-997F-99470643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8480" y="606600"/>
            <a:ext cx="19249920" cy="251928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ctr">
            <a:noAutofit/>
          </a:bodyPr>
          <a:p>
            <a:pPr indent="0" algn="ctr"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480" y="3529080"/>
            <a:ext cx="9393840" cy="998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2480" y="3529080"/>
            <a:ext cx="9393840" cy="998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C6F6-6FD5-489D-BC25-33A8B212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8480" y="606600"/>
            <a:ext cx="19249920" cy="251928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ctr">
            <a:noAutofit/>
          </a:bodyPr>
          <a:p>
            <a:pPr indent="0" algn="ctr"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2B4E-763F-4211-8546-8323F30D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8480" y="606600"/>
            <a:ext cx="19249920" cy="116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99"/>
              </a:spcBef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87C9-DECB-48DE-9615-34C94FD7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8480" y="606600"/>
            <a:ext cx="19249920" cy="251928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ctr">
            <a:noAutofit/>
          </a:bodyPr>
          <a:p>
            <a:pPr indent="0" algn="ctr"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480" y="3529080"/>
            <a:ext cx="939384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932480" y="3529080"/>
            <a:ext cx="9393840" cy="998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480" y="8742240"/>
            <a:ext cx="939384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DAB-2EBE-40D1-A01B-C69A603A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8480" y="606600"/>
            <a:ext cx="19249920" cy="251928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ctr">
            <a:noAutofit/>
          </a:bodyPr>
          <a:p>
            <a:pPr indent="0" algn="ctr"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480" y="3529080"/>
            <a:ext cx="9393840" cy="998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932480" y="3529080"/>
            <a:ext cx="939384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932480" y="8742240"/>
            <a:ext cx="939384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C53C-BA69-4A31-A08D-50C825CC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8480" y="606600"/>
            <a:ext cx="19249920" cy="251928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ctr">
            <a:noAutofit/>
          </a:bodyPr>
          <a:p>
            <a:pPr indent="0" algn="ctr"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480" y="3529080"/>
            <a:ext cx="939384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932480" y="3529080"/>
            <a:ext cx="939384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480" y="8742240"/>
            <a:ext cx="19249920" cy="476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indent="0">
              <a:spcBef>
                <a:spcPts val="1899"/>
              </a:spcBef>
              <a:buNone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713-0DB7-4523-A1B7-87DDC718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8480" y="606600"/>
            <a:ext cx="19249920" cy="251928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ctr">
            <a:noAutofit/>
          </a:bodyPr>
          <a:p>
            <a:pPr indent="0" algn="ctr">
              <a:buNone/>
              <a:tabLst>
                <a:tab algn="l" pos="0"/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8480" y="3529080"/>
            <a:ext cx="19249920" cy="998064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rmAutofit/>
          </a:bodyPr>
          <a:p>
            <a:pPr marL="817560" indent="-817560">
              <a:spcBef>
                <a:spcPts val="1899"/>
              </a:spcBef>
              <a:buClr>
                <a:srgbClr val="000000"/>
              </a:buClr>
              <a:buFont typeface="Arial"/>
              <a:buChar char="•"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lvl="1" marL="1773360" indent="-682920">
              <a:spcBef>
                <a:spcPts val="1899"/>
              </a:spcBef>
              <a:buClr>
                <a:srgbClr val="000000"/>
              </a:buClr>
              <a:buFont typeface="Arial"/>
              <a:buChar char="–"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lvl="2" marL="2727360" indent="-544680">
              <a:spcBef>
                <a:spcPts val="1899"/>
              </a:spcBef>
              <a:buClr>
                <a:srgbClr val="000000"/>
              </a:buClr>
              <a:buFont typeface="Arial"/>
              <a:buChar char="•"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lvl="3" marL="3817800" indent="-544320">
              <a:spcBef>
                <a:spcPts val="1899"/>
              </a:spcBef>
              <a:buClr>
                <a:srgbClr val="000000"/>
              </a:buClr>
              <a:buFont typeface="Arial"/>
              <a:buChar char="–"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lvl="4" marL="4908600" indent="-542880">
              <a:spcBef>
                <a:spcPts val="1899"/>
              </a:spcBef>
              <a:buClr>
                <a:srgbClr val="000000"/>
              </a:buClr>
              <a:buFont typeface="Arial"/>
              <a:buChar char="»"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lvl="5" marL="4908600" indent="-542880">
              <a:spcBef>
                <a:spcPts val="1899"/>
              </a:spcBef>
              <a:buClr>
                <a:srgbClr val="000000"/>
              </a:buClr>
              <a:buFont typeface="Arial"/>
              <a:buChar char="»"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lvl="6" marL="4908600" indent="-542880">
              <a:spcBef>
                <a:spcPts val="1899"/>
              </a:spcBef>
              <a:buClr>
                <a:srgbClr val="000000"/>
              </a:buClr>
              <a:buFont typeface="Arial"/>
              <a:buChar char="»"/>
              <a:tabLst>
                <a:tab algn="l" pos="2181240"/>
                <a:tab algn="l" pos="4362480"/>
                <a:tab algn="l" pos="6543720"/>
                <a:tab algn="l" pos="8724960"/>
                <a:tab algn="l" pos="109062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8480" y="13771440"/>
            <a:ext cx="4991040" cy="105120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07280" y="13771440"/>
            <a:ext cx="6772320" cy="105120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327360" y="13771440"/>
            <a:ext cx="4991040" cy="1051200"/>
          </a:xfrm>
          <a:prstGeom prst="rect">
            <a:avLst/>
          </a:prstGeom>
          <a:noFill/>
          <a:ln w="0">
            <a:noFill/>
          </a:ln>
        </p:spPr>
        <p:txBody>
          <a:bodyPr lIns="218160" rIns="218160" tIns="109080" bIns="109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3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9B50-A2D7-4CFB-BBD5-321459408368}" type="slidenum">
              <a:rPr b="0" lang="en-US" sz="3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3" descr="C:\Users\Rajvardhini\Desktop\lllll.jpg"/>
          <p:cNvPicPr/>
          <p:nvPr/>
        </p:nvPicPr>
        <p:blipFill>
          <a:blip r:embed="rId1"/>
          <a:stretch/>
        </p:blipFill>
        <p:spPr>
          <a:xfrm>
            <a:off x="0" y="0"/>
            <a:ext cx="21386880" cy="15122520"/>
          </a:xfrm>
          <a:prstGeom prst="rect">
            <a:avLst/>
          </a:prstGeom>
          <a:ln w="0">
            <a:noFill/>
          </a:ln>
        </p:spPr>
      </p:pic>
      <p:sp>
        <p:nvSpPr>
          <p:cNvPr id="49" name="Oval 170"/>
          <p:cNvSpPr/>
          <p:nvPr/>
        </p:nvSpPr>
        <p:spPr>
          <a:xfrm>
            <a:off x="120600" y="5506920"/>
            <a:ext cx="8634600" cy="50659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71"/>
          <p:cNvSpPr/>
          <p:nvPr/>
        </p:nvSpPr>
        <p:spPr>
          <a:xfrm flipH="1" rot="18094200">
            <a:off x="1122840" y="3575880"/>
            <a:ext cx="3830760" cy="1616040"/>
          </a:xfrm>
          <a:custGeom>
            <a:avLst/>
            <a:gdLst>
              <a:gd name="textAreaLeft" fmla="*/ 757440 w 3830760"/>
              <a:gd name="textAreaRight" fmla="*/ 2742120 w 3830760"/>
              <a:gd name="textAreaTop" fmla="*/ 216360 h 1616040"/>
              <a:gd name="textAreaBottom" fmla="*/ 1399680 h 1616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43" hR="21600" stAng="10800000" swAng="5400000"/>
                <a:lnTo>
                  <a:pt x="11190" y="0"/>
                </a:lnTo>
                <a:arcTo wR="8543" hR="21600" stAng="-5400000" swAng="1634704"/>
                <a:lnTo>
                  <a:pt x="19832" y="8443"/>
                </a:lnTo>
                <a:lnTo>
                  <a:pt x="18409" y="21600"/>
                </a:lnTo>
                <a:lnTo>
                  <a:pt x="13449" y="8443"/>
                </a:lnTo>
                <a:lnTo>
                  <a:pt x="15317" y="8443"/>
                </a:lnTo>
                <a:arcTo wR="8543" hR="21600" stAng="-3765296" swAng="-1421761"/>
                <a:lnTo>
                  <a:pt x="9866" y="261"/>
                </a:lnTo>
                <a:arcTo wR="8543" hR="21600" stAng="-5612943" swAng="-5187057"/>
                <a:close/>
              </a:path>
              <a:path fill="darkenLess" w="21600" h="21600">
                <a:moveTo>
                  <a:pt x="0" y="21600"/>
                </a:moveTo>
                <a:arcTo wR="8543" hR="21600" stAng="10800000" swAng="5400000"/>
                <a:lnTo>
                  <a:pt x="8543" y="0"/>
                </a:lnTo>
                <a:arcTo wR="8543" hR="21600" stAng="-5400000" swAng="212943"/>
                <a:lnTo>
                  <a:pt x="9866" y="261"/>
                </a:lnTo>
                <a:arcTo wR="8543" hR="21600" stAng="-5612943" swAng="-5187057"/>
                <a:close/>
              </a:path>
            </a:pathLst>
          </a:custGeom>
          <a:solidFill>
            <a:srgbClr val="f94c07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72"/>
          <p:cNvSpPr/>
          <p:nvPr/>
        </p:nvSpPr>
        <p:spPr>
          <a:xfrm>
            <a:off x="12730320" y="1528920"/>
            <a:ext cx="7920000" cy="4967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73"/>
          <p:cNvSpPr/>
          <p:nvPr/>
        </p:nvSpPr>
        <p:spPr>
          <a:xfrm flipH="1" rot="5400000">
            <a:off x="17881560" y="6428160"/>
            <a:ext cx="4108680" cy="1684440"/>
          </a:xfrm>
          <a:custGeom>
            <a:avLst/>
            <a:gdLst>
              <a:gd name="textAreaLeft" fmla="*/ 816120 w 4108680"/>
              <a:gd name="textAreaRight" fmla="*/ 2943000 w 4108680"/>
              <a:gd name="textAreaTop" fmla="*/ 225360 h 1684440"/>
              <a:gd name="textAreaBottom" fmla="*/ 1459080 h 1684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84" hR="21600" stAng="10800000" swAng="5400000"/>
                <a:lnTo>
                  <a:pt x="11182" y="0"/>
                </a:lnTo>
                <a:arcTo wR="8584" hR="21600" stAng="-5400000" swAng="1641494"/>
                <a:lnTo>
                  <a:pt x="19824" y="8443"/>
                </a:lnTo>
                <a:lnTo>
                  <a:pt x="18467" y="21600"/>
                </a:lnTo>
                <a:lnTo>
                  <a:pt x="13558" y="8443"/>
                </a:lnTo>
                <a:lnTo>
                  <a:pt x="15392" y="8443"/>
                </a:lnTo>
                <a:arcTo wR="8584" hR="21600" stAng="-3758506" swAng="-1432601"/>
                <a:lnTo>
                  <a:pt x="9883" y="249"/>
                </a:lnTo>
                <a:arcTo wR="8584" hR="21600" stAng="-5608893" swAng="-5191107"/>
                <a:close/>
              </a:path>
              <a:path fill="darkenLess" w="21600" h="21600">
                <a:moveTo>
                  <a:pt x="0" y="21600"/>
                </a:moveTo>
                <a:arcTo wR="8584" hR="21600" stAng="10800000" swAng="5400000"/>
                <a:lnTo>
                  <a:pt x="8584" y="0"/>
                </a:lnTo>
                <a:arcTo wR="8584" hR="21600" stAng="-5400000" swAng="208893"/>
                <a:lnTo>
                  <a:pt x="9883" y="249"/>
                </a:lnTo>
                <a:arcTo wR="8584" hR="21600" stAng="-5608893" swAng="-5191107"/>
                <a:close/>
              </a:path>
            </a:pathLst>
          </a:custGeom>
          <a:solidFill>
            <a:srgbClr val="f94c07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74"/>
          <p:cNvSpPr/>
          <p:nvPr/>
        </p:nvSpPr>
        <p:spPr>
          <a:xfrm>
            <a:off x="12515760" y="8153280"/>
            <a:ext cx="8134560" cy="6419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5"/>
          <p:cNvSpPr/>
          <p:nvPr/>
        </p:nvSpPr>
        <p:spPr>
          <a:xfrm rot="21282600">
            <a:off x="10163160" y="13571640"/>
            <a:ext cx="5067360" cy="1477800"/>
          </a:xfrm>
          <a:custGeom>
            <a:avLst/>
            <a:gdLst>
              <a:gd name="textAreaLeft" fmla="*/ 1034280 w 5067360"/>
              <a:gd name="textAreaRight" fmla="*/ 3494160 w 5067360"/>
              <a:gd name="textAreaTop" fmla="*/ 198000 h 1477800"/>
              <a:gd name="textAreaBottom" fmla="*/ 1279800 h 147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18" hR="21600" stAng="10800000" swAng="-5400000"/>
                <a:lnTo>
                  <a:pt x="10486" y="21600"/>
                </a:lnTo>
                <a:arcTo wR="8818" hR="21600" stAng="5400000" swAng="-3891946"/>
                <a:lnTo>
                  <a:pt x="21443" y="4063"/>
                </a:lnTo>
                <a:lnTo>
                  <a:pt x="18469" y="0"/>
                </a:lnTo>
                <a:lnTo>
                  <a:pt x="15181" y="4063"/>
                </a:lnTo>
                <a:lnTo>
                  <a:pt x="17478" y="4063"/>
                </a:lnTo>
                <a:arcTo wR="8818" hR="21600" stAng="1508054" swAng="3758680"/>
                <a:lnTo>
                  <a:pt x="9652" y="21503"/>
                </a:lnTo>
                <a:arcTo wR="8818" hR="21600" stAng="5533266" swAng="5266734"/>
                <a:close/>
              </a:path>
              <a:path fill="darkenLess" w="21600" h="21600">
                <a:moveTo>
                  <a:pt x="0" y="0"/>
                </a:moveTo>
                <a:arcTo wR="8818" hR="21600" stAng="10800000" swAng="-5400000"/>
                <a:lnTo>
                  <a:pt x="10486" y="21600"/>
                </a:lnTo>
                <a:arcTo wR="8818" hR="21600" stAng="5400000" swAng="133266"/>
                <a:lnTo>
                  <a:pt x="9652" y="21503"/>
                </a:lnTo>
                <a:arcTo wR="8818" hR="21600" stAng="5533266" swAng="5266734"/>
                <a:close/>
              </a:path>
            </a:pathLst>
          </a:custGeom>
          <a:solidFill>
            <a:srgbClr val="f94c07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76"/>
          <p:cNvSpPr/>
          <p:nvPr/>
        </p:nvSpPr>
        <p:spPr>
          <a:xfrm>
            <a:off x="4195800" y="10699920"/>
            <a:ext cx="7451640" cy="417024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77"/>
          <p:cNvSpPr/>
          <p:nvPr/>
        </p:nvSpPr>
        <p:spPr>
          <a:xfrm>
            <a:off x="4484520" y="1409760"/>
            <a:ext cx="7783560" cy="40575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8"/>
          <p:cNvSpPr/>
          <p:nvPr/>
        </p:nvSpPr>
        <p:spPr>
          <a:xfrm>
            <a:off x="0" y="0"/>
            <a:ext cx="21386880" cy="1320840"/>
          </a:xfrm>
          <a:prstGeom prst="rect">
            <a:avLst/>
          </a:prstGeom>
          <a:solidFill>
            <a:srgbClr val="efdd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800" bIns="55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19600"/>
                <a:tab algn="l" pos="7639200"/>
              </a:tabLst>
            </a:pPr>
            <a:r>
              <a:rPr b="1" lang="en-US" sz="4900" spc="-1" strike="noStrike">
                <a:solidFill>
                  <a:srgbClr val="cc3300"/>
                </a:solidFill>
                <a:latin typeface="Gill Sans MT"/>
                <a:ea typeface="宋体"/>
              </a:rPr>
              <a:t>Soy Yogurt Drink with Kiwi Flavour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5"/>
          <p:cNvSpPr/>
          <p:nvPr/>
        </p:nvSpPr>
        <p:spPr>
          <a:xfrm>
            <a:off x="6905520" y="1841400"/>
            <a:ext cx="2492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800" bIns="55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19600"/>
                <a:tab algn="l" pos="7639200"/>
              </a:tabLst>
            </a:pPr>
            <a:r>
              <a:rPr b="1" lang="en-US" sz="3200" spc="-1" strike="noStrike">
                <a:solidFill>
                  <a:srgbClr val="b54113"/>
                </a:solidFill>
                <a:latin typeface="Gill Sans MT"/>
                <a:ea typeface="宋体"/>
              </a:rPr>
              <a:t>Marketing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86"/>
          <p:cNvSpPr/>
          <p:nvPr/>
        </p:nvSpPr>
        <p:spPr>
          <a:xfrm>
            <a:off x="6407280" y="1884240"/>
            <a:ext cx="339480" cy="451080"/>
          </a:xfrm>
          <a:prstGeom prst="ellipse">
            <a:avLst/>
          </a:prstGeom>
          <a:solidFill>
            <a:srgbClr val="b541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19600"/>
                <a:tab algn="l" pos="76392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Gill Sans MT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8"/>
          <p:cNvSpPr/>
          <p:nvPr/>
        </p:nvSpPr>
        <p:spPr>
          <a:xfrm>
            <a:off x="3738600" y="5746680"/>
            <a:ext cx="237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800" bIns="55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19600"/>
                <a:tab algn="l" pos="7639200"/>
              </a:tabLst>
            </a:pPr>
            <a:r>
              <a:rPr b="1" lang="en-US" sz="3200" spc="-1" strike="noStrike">
                <a:solidFill>
                  <a:srgbClr val="b54113"/>
                </a:solidFill>
                <a:latin typeface="Gill Sans MT"/>
                <a:ea typeface="宋体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89"/>
          <p:cNvSpPr/>
          <p:nvPr/>
        </p:nvSpPr>
        <p:spPr>
          <a:xfrm>
            <a:off x="3287880" y="5707080"/>
            <a:ext cx="341280" cy="449280"/>
          </a:xfrm>
          <a:prstGeom prst="ellipse">
            <a:avLst/>
          </a:prstGeom>
          <a:solidFill>
            <a:srgbClr val="b541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19600"/>
                <a:tab algn="l" pos="76392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Gill Sans MT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0"/>
          <p:cNvSpPr/>
          <p:nvPr/>
        </p:nvSpPr>
        <p:spPr>
          <a:xfrm>
            <a:off x="7183440" y="11152080"/>
            <a:ext cx="2011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800" bIns="55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19600"/>
                <a:tab algn="l" pos="7639200"/>
              </a:tabLst>
            </a:pPr>
            <a:r>
              <a:rPr b="1" lang="en-US" sz="3200" spc="-1" strike="noStrike">
                <a:solidFill>
                  <a:srgbClr val="b54113"/>
                </a:solidFill>
                <a:latin typeface="Gill Sans MT"/>
                <a:ea typeface="宋体"/>
              </a:rPr>
              <a:t>Target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91"/>
          <p:cNvSpPr/>
          <p:nvPr/>
        </p:nvSpPr>
        <p:spPr>
          <a:xfrm>
            <a:off x="6624720" y="11125080"/>
            <a:ext cx="339480" cy="451080"/>
          </a:xfrm>
          <a:prstGeom prst="ellipse">
            <a:avLst/>
          </a:prstGeom>
          <a:solidFill>
            <a:srgbClr val="b541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19600"/>
                <a:tab algn="l" pos="76392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Gill Sans MT"/>
                <a:ea typeface="宋体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2"/>
          <p:cNvSpPr/>
          <p:nvPr/>
        </p:nvSpPr>
        <p:spPr>
          <a:xfrm>
            <a:off x="5195880" y="11620440"/>
            <a:ext cx="6143760" cy="26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800" bIns="55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le pop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lder people, young population tend to consume 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st option for the people suffer from lactose intoleranc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fordable to all classes of 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3819600"/>
                <a:tab algn="l" pos="7639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94"/>
          <p:cNvSpPr/>
          <p:nvPr/>
        </p:nvSpPr>
        <p:spPr>
          <a:xfrm>
            <a:off x="15967080" y="1976400"/>
            <a:ext cx="2517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800" bIns="55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19600"/>
                <a:tab algn="l" pos="7639200"/>
              </a:tabLst>
            </a:pPr>
            <a:r>
              <a:rPr b="1" lang="en-US" sz="3200" spc="-1" strike="noStrike">
                <a:solidFill>
                  <a:srgbClr val="b54113"/>
                </a:solidFill>
                <a:latin typeface="Gill Sans MT"/>
                <a:ea typeface="宋体"/>
              </a:rPr>
              <a:t>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5"/>
          <p:cNvSpPr/>
          <p:nvPr/>
        </p:nvSpPr>
        <p:spPr>
          <a:xfrm>
            <a:off x="13790520" y="2273400"/>
            <a:ext cx="6459480" cy="40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800" bIns="55800" anchor="t">
            <a:spAutoFit/>
          </a:bodyPr>
          <a:p>
            <a:pPr marL="343080" indent="-343080">
              <a:tabLst>
                <a:tab algn="l" pos="0"/>
                <a:tab algn="l" pos="3819600"/>
                <a:tab algn="l" pos="7639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awareness among people about new product b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promotion in summer to feel cool and refre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ertisement  through handouts, newspaper,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act the consumer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819600"/>
                <a:tab algn="l" pos="763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ing free samples, coupons, loyalty cards, frequent user incen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6"/>
          <p:cNvSpPr/>
          <p:nvPr/>
        </p:nvSpPr>
        <p:spPr>
          <a:xfrm>
            <a:off x="15497280" y="1995480"/>
            <a:ext cx="339480" cy="449280"/>
          </a:xfrm>
          <a:prstGeom prst="ellipse">
            <a:avLst/>
          </a:prstGeom>
          <a:solidFill>
            <a:srgbClr val="b541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19600"/>
                <a:tab algn="l" pos="76392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Gill Sans MT"/>
                <a:ea typeface="宋体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05"/>
          <p:cNvGrpSpPr/>
          <p:nvPr/>
        </p:nvGrpSpPr>
        <p:grpSpPr>
          <a:xfrm>
            <a:off x="14722560" y="8701200"/>
            <a:ext cx="2442600" cy="497880"/>
            <a:chOff x="14722560" y="8701200"/>
            <a:chExt cx="2442600" cy="497880"/>
          </a:xfrm>
        </p:grpSpPr>
        <p:sp>
          <p:nvSpPr>
            <p:cNvPr id="69" name="Oval 206"/>
            <p:cNvSpPr/>
            <p:nvPr/>
          </p:nvSpPr>
          <p:spPr>
            <a:xfrm>
              <a:off x="14722560" y="8701200"/>
              <a:ext cx="339480" cy="451080"/>
            </a:xfrm>
            <a:prstGeom prst="ellipse">
              <a:avLst/>
            </a:prstGeom>
            <a:solidFill>
              <a:srgbClr val="b541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819600"/>
                  <a:tab algn="l" pos="76392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Gill Sans MT"/>
                  <a:ea typeface="宋体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07"/>
            <p:cNvSpPr/>
            <p:nvPr/>
          </p:nvSpPr>
          <p:spPr>
            <a:xfrm>
              <a:off x="15155640" y="8793000"/>
              <a:ext cx="2009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160" rIns="137160" tIns="68760" bIns="68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19600"/>
                  <a:tab algn="l" pos="7639200"/>
                </a:tabLst>
              </a:pPr>
              <a:r>
                <a:rPr b="1" lang="en-US" sz="3200" spc="-1" strike="noStrike">
                  <a:solidFill>
                    <a:srgbClr val="b54113"/>
                  </a:solidFill>
                  <a:latin typeface="Gill Sans MT"/>
                  <a:ea typeface="宋体"/>
                </a:rPr>
                <a:t>Distribution &amp; Pri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228"/>
          <p:cNvSpPr/>
          <p:nvPr/>
        </p:nvSpPr>
        <p:spPr>
          <a:xfrm>
            <a:off x="13125600" y="9264600"/>
            <a:ext cx="7810200" cy="55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800" bIns="55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in retailer supermarkets in U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Morrison's, Sainsburys,TESCO, M&amp;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819600"/>
                <a:tab algn="l" pos="7639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in small express store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yogurt drink in UK market are priced £0.25-0.93/1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need to pay extra, get more benefits at the same price : £1/ bottle (250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819600"/>
                <a:tab algn="l" pos="7639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price: 0.80p/ bottle (250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3819600"/>
                <a:tab algn="l" pos="7639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6" descr="C:\Users\merian\Desktop\4199809_153819021695_2.jpg"/>
          <p:cNvPicPr/>
          <p:nvPr/>
        </p:nvPicPr>
        <p:blipFill>
          <a:blip r:embed="rId2"/>
          <a:stretch/>
        </p:blipFill>
        <p:spPr>
          <a:xfrm>
            <a:off x="0" y="0"/>
            <a:ext cx="2457360" cy="2610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18504000" y="1602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19600"/>
                <a:tab algn="l" pos="76392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Gill Sans MT"/>
                <a:ea typeface="宋体"/>
              </a:rPr>
              <a:t>Group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19600"/>
                <a:tab algn="l" pos="7639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685800" y="155736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3300"/>
                </a:solidFill>
                <a:latin typeface="Forte"/>
              </a:rPr>
              <a:t>Kiw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1162080" y="6284880"/>
            <a:ext cx="718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y Yoghurt Drink i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gurt drink holds 25% of all yogurt product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competitors : other yogurt drink in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que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wi fla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s soy yogurt and cows yog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rst quenching, refreshing, ideal for snack and break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icated to fulfill customer requirement of healthy and nutritious self serve dr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5132520" y="2457360"/>
            <a:ext cx="619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unch  product in market and compete with the existing b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m to sell 500,000 units by the end of December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ld at least 5% market shares of yogurt drink industry of 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69"/>
          <p:cNvSpPr/>
          <p:nvPr/>
        </p:nvSpPr>
        <p:spPr>
          <a:xfrm rot="3180000">
            <a:off x="83880" y="11712240"/>
            <a:ext cx="5219640" cy="1952640"/>
          </a:xfrm>
          <a:custGeom>
            <a:avLst/>
            <a:gdLst>
              <a:gd name="textAreaLeft" fmla="*/ 977040 w 5219640"/>
              <a:gd name="textAreaRight" fmla="*/ 3623040 w 5219640"/>
              <a:gd name="textAreaTop" fmla="*/ 261360 h 1952640"/>
              <a:gd name="textAreaBottom" fmla="*/ 1691280 h 19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88" hR="21600" stAng="10800000" swAng="-5400000"/>
                <a:lnTo>
                  <a:pt x="10949" y="21600"/>
                </a:lnTo>
                <a:arcTo wR="8088" hR="21600" stAng="5400000" swAng="-2798625"/>
                <a:lnTo>
                  <a:pt x="21137" y="7200"/>
                </a:lnTo>
                <a:lnTo>
                  <a:pt x="17607" y="0"/>
                </a:lnTo>
                <a:lnTo>
                  <a:pt x="13150" y="7200"/>
                </a:lnTo>
                <a:lnTo>
                  <a:pt x="15713" y="7200"/>
                </a:lnTo>
                <a:arcTo wR="8088" hR="21600" stAng="2601375" swAng="2567655"/>
                <a:lnTo>
                  <a:pt x="9519" y="21259"/>
                </a:lnTo>
                <a:arcTo wR="8088" hR="21600" stAng="5630970" swAng="5169030"/>
                <a:close/>
              </a:path>
              <a:path fill="darkenLess" w="21600" h="21600">
                <a:moveTo>
                  <a:pt x="0" y="0"/>
                </a:moveTo>
                <a:arcTo wR="8088" hR="21600" stAng="10800000" swAng="-5400000"/>
                <a:lnTo>
                  <a:pt x="10949" y="21600"/>
                </a:lnTo>
                <a:arcTo wR="8088" hR="21600" stAng="5400000" swAng="230970"/>
                <a:lnTo>
                  <a:pt x="9519" y="21259"/>
                </a:lnTo>
                <a:arcTo wR="8088" hR="21600" stAng="5630970" swAng="5169030"/>
                <a:close/>
              </a:path>
            </a:pathLst>
          </a:custGeom>
          <a:solidFill>
            <a:srgbClr val="f94c07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4160" rIns="7416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1" descr=""/>
          <p:cNvPicPr/>
          <p:nvPr/>
        </p:nvPicPr>
        <p:blipFill>
          <a:blip r:embed="rId3"/>
          <a:stretch/>
        </p:blipFill>
        <p:spPr>
          <a:xfrm>
            <a:off x="19276920" y="14295600"/>
            <a:ext cx="18385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9:46:06Z</dcterms:created>
  <dc:creator>Graphicsland/MakeSigns.com</dc:creator>
  <dc:description>These templates are offered for free to help your create a poster ranging from nursing research posters to psychology research posters.</dc:description>
  <cp:keywords>scientific research template custom poster presentation symposium printing PowerPoint create design example sample download</cp:keywords>
  <dc:language>en-US</dc:language>
  <cp:lastModifiedBy>Rajvardhini</cp:lastModifiedBy>
  <dcterms:modified xsi:type="dcterms:W3CDTF">2011-08-15T12:45:51Z</dcterms:modified>
  <cp:revision>92</cp:revision>
  <dc:subject>Free Research Poster</dc:subject>
  <dc:title>Example of a scientific poster</dc:title>
</cp:coreProperties>
</file>